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0063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68A-6314-45F4-BDB2-1DF9CDE9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475-01AE-4B03-BD43-61857B1D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C5C-BC3C-44FB-B8C6-F29304D3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167-3482-4E18-BAB0-288DD52F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316-31E9-475B-B896-10D3B22B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958-9E7D-49BA-858C-2E9A8D59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C65-920B-40B3-B11C-239701C6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EDD-48D7-4BA5-8A39-224C0C14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836-A0CA-4573-8FF0-2C18CE5C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795-D32C-43A8-B3FD-824E12DA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A57-8E85-4279-A328-ACC12DA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467-82AB-475A-A539-1CD9C402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BF09-4C1E-46F0-9D3E-229B9FA83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Percent Yield of </a:t>
            </a:r>
            <a:br>
              <a:rPr sz="4400"/>
            </a:b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Sodium Chlor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1911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l (aq) + Na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s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aCl (s)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(l) +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produ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876920" y="4723920"/>
            <a:ext cx="0" cy="685800"/>
          </a:xfrm>
          <a:prstGeom prst="line">
            <a:avLst/>
          </a:prstGeom>
          <a:ln w="38160">
            <a:solidFill>
              <a:srgbClr val="dddddd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Materials and Equip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porating Di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ng st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nsen Burn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rik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gg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ay triang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stic pipet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rlenmeyer Fla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H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C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ss the evaporating dish.  Reco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d 2.00 to 3.00 grams of sodium hydrogen carbonate to the evaporating dish.  Place on balance. Record ma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th the pipette, slowly add hydrochloric acid (HCl), to the evaporating dish until the reaction stops.  CAUTION: HCl is corrosive.  Report spills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Procedure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wly heat the evaporating dish until there is no more water.  It should be DRY.  Take caution to not crack the dish or you may lose your produ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n there is no more water mass the evaporating dish and product.  Rec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inse and wipe the dish clean.  Return all materials back to their respective pla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Data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219320"/>
          <a:ext cx="7772400" cy="5140080"/>
        </p:xfrm>
        <a:graphic>
          <a:graphicData uri="http://schemas.openxmlformats.org/drawingml/2006/table">
            <a:tbl>
              <a:tblPr/>
              <a:tblGrid>
                <a:gridCol w="5029200"/>
                <a:gridCol w="2743200"/>
              </a:tblGrid>
              <a:tr h="110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ss of evaporating dish (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ss of evaporating dish, and NaHCO</a:t>
                      </a:r>
                      <a:r>
                        <a:rPr b="1" lang="en-US" sz="28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ss of evaporating dish and product (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Calculations (show all work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s of sodium hydrogen carbo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s of sodium chloride 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oretical y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nt y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does your percent yield mea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What value for percent yield is ideal?  How are you basing this judgment?  Justify your answ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Was your percent yield high/low?  Explain your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Which reactant was limiting?  How do you know this?  Explain your answ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3:57:07Z</dcterms:created>
  <dc:creator>D Costello</dc:creator>
  <dc:description/>
  <dc:language>en-US</dc:language>
  <cp:lastModifiedBy>CFISD</cp:lastModifiedBy>
  <dcterms:modified xsi:type="dcterms:W3CDTF">2008-12-17T16:55:48Z</dcterms:modified>
  <cp:revision>16</cp:revision>
  <dc:subject/>
  <dc:title>lithium oxide</dc:title>
</cp:coreProperties>
</file>